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C9F-6887-40F5-8A9B-8B730859D13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4C68-728E-4ABC-9CA9-69F22F1D4D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ohja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8580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7" descr="testi_logo"/>
          <p:cNvPicPr/>
          <p:nvPr/>
        </p:nvPicPr>
        <p:blipFill>
          <a:blip r:embed="rId3"/>
          <a:stretch/>
        </p:blipFill>
        <p:spPr>
          <a:xfrm>
            <a:off x="6019920" y="228600"/>
            <a:ext cx="251460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9" descr="test_beijer"/>
          <p:cNvPicPr/>
          <p:nvPr/>
        </p:nvPicPr>
        <p:blipFill>
          <a:blip r:embed="rId4"/>
          <a:stretch/>
        </p:blipFill>
        <p:spPr>
          <a:xfrm>
            <a:off x="7315200" y="6477120"/>
            <a:ext cx="1676520" cy="1346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2"/>
          <p:cNvSpPr/>
          <p:nvPr/>
        </p:nvSpPr>
        <p:spPr>
          <a:xfrm>
            <a:off x="0" y="1600200"/>
            <a:ext cx="91440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3"/>
          <p:cNvSpPr/>
          <p:nvPr/>
        </p:nvSpPr>
        <p:spPr>
          <a:xfrm>
            <a:off x="0" y="594360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09480" y="59436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Ruosilantie 14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00390 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274320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akalaivankatu 10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33840 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51055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Pitkämäenkatu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20250 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ohja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68580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testi_logo"/>
          <p:cNvPicPr/>
          <p:nvPr/>
        </p:nvPicPr>
        <p:blipFill>
          <a:blip r:embed="rId3"/>
          <a:stretch/>
        </p:blipFill>
        <p:spPr>
          <a:xfrm>
            <a:off x="6019920" y="228600"/>
            <a:ext cx="2514600" cy="37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test_beijer"/>
          <p:cNvPicPr/>
          <p:nvPr/>
        </p:nvPicPr>
        <p:blipFill>
          <a:blip r:embed="rId4"/>
          <a:stretch/>
        </p:blipFill>
        <p:spPr>
          <a:xfrm>
            <a:off x="7315200" y="6477120"/>
            <a:ext cx="1676520" cy="13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2"/>
          <p:cNvSpPr/>
          <p:nvPr/>
        </p:nvSpPr>
        <p:spPr>
          <a:xfrm>
            <a:off x="0" y="1600200"/>
            <a:ext cx="91440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3"/>
          <p:cNvSpPr/>
          <p:nvPr/>
        </p:nvSpPr>
        <p:spPr>
          <a:xfrm>
            <a:off x="0" y="594360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09480" y="59436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Ruosilantie 14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00390 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74320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akalaivankatu 10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33840 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51055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Pitkämäenkatu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20250 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STAR  Success Story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land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Klaus Nyström, MD, Combi Co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4500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delfingen, Frida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cember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Grafik 3" descr="Ecostar IMG_3399.JPG"/>
          <p:cNvPicPr/>
          <p:nvPr/>
        </p:nvPicPr>
        <p:blipFill>
          <a:blip r:embed="rId1"/>
          <a:stretch/>
        </p:blipFill>
        <p:spPr>
          <a:xfrm>
            <a:off x="3780000" y="19414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-324000" y="2262240"/>
            <a:ext cx="3922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Siwa shop (150m2) in Ra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HV6/4FC for 5-deck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! Market lea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 the same pictur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feld 4"/>
          <p:cNvSpPr/>
          <p:nvPr/>
        </p:nvSpPr>
        <p:spPr>
          <a:xfrm>
            <a:off x="423720" y="5516640"/>
            <a:ext cx="8296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989000"/>
            <a:ext cx="327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permarket  in A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 kombi freezers a’ 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,5kW / pcs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35/+30C a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3" descr="Aura store.jpg"/>
          <p:cNvPicPr/>
          <p:nvPr/>
        </p:nvPicPr>
        <p:blipFill>
          <a:blip r:embed="rId1"/>
          <a:stretch/>
        </p:blipFill>
        <p:spPr>
          <a:xfrm>
            <a:off x="4211640" y="1955880"/>
            <a:ext cx="4525920" cy="339408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4" descr="Aura Ecostar2.jpg"/>
          <p:cNvPicPr/>
          <p:nvPr/>
        </p:nvPicPr>
        <p:blipFill>
          <a:blip r:embed="rId2"/>
          <a:srcRect l="23010" t="8813" r="6338" b="18889"/>
          <a:stretch/>
        </p:blipFill>
        <p:spPr>
          <a:xfrm>
            <a:off x="1116000" y="3589200"/>
            <a:ext cx="29304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1916280"/>
            <a:ext cx="3276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wa box store in Lieto (150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HV6/4FC for milk, meat and f&amp;v rooms, 10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4EC for 5-deckers, 13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nits hided in  ventilation machine ro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3" descr="Ecostar IMG_3383.JPG"/>
          <p:cNvPicPr/>
          <p:nvPr/>
        </p:nvPicPr>
        <p:blipFill>
          <a:blip r:embed="rId1"/>
          <a:stretch/>
        </p:blipFill>
        <p:spPr>
          <a:xfrm>
            <a:off x="5614920" y="1616040"/>
            <a:ext cx="3529080" cy="235260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4" descr="Ecostar IMG_3388.JPG"/>
          <p:cNvPicPr/>
          <p:nvPr/>
        </p:nvPicPr>
        <p:blipFill>
          <a:blip r:embed="rId2"/>
          <a:stretch/>
        </p:blipFill>
        <p:spPr>
          <a:xfrm>
            <a:off x="3592440" y="3789360"/>
            <a:ext cx="3132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-468360" y="1916280"/>
            <a:ext cx="31687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wa box store (200 m2) in Turk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2DC for MT-rooms, 7,6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4FC for 5-deckers, 10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4EC for kombi freezer, 4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se units make the whole refrigeration system 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Grafik 7" descr="ECOSTAR_Combicool.JPG"/>
          <p:cNvPicPr/>
          <p:nvPr/>
        </p:nvPicPr>
        <p:blipFill>
          <a:blip r:embed="rId1"/>
          <a:stretch/>
        </p:blipFill>
        <p:spPr>
          <a:xfrm>
            <a:off x="2916360" y="1901880"/>
            <a:ext cx="5976720" cy="354312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4"/>
          <p:cNvSpPr/>
          <p:nvPr/>
        </p:nvSpPr>
        <p:spPr>
          <a:xfrm>
            <a:off x="423720" y="5516640"/>
            <a:ext cx="8296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Kuva 1" descr="30062011035"/>
          <p:cNvPicPr/>
          <p:nvPr/>
        </p:nvPicPr>
        <p:blipFill>
          <a:blip r:embed="rId1"/>
          <a:stretch/>
        </p:blipFill>
        <p:spPr>
          <a:xfrm>
            <a:off x="3132000" y="1989000"/>
            <a:ext cx="4969080" cy="3733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79280" y="2133720"/>
            <a:ext cx="324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 box store (200 m2) in Tampe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pcs LHV6/4F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space for a machine room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units make the w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rigeration system 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0058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504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 temperature in Finl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ying from -30°C up to +30°C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t max. values for less than 2 weeks a ye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bient temperature can be below -25°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several week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g demand for capacity control – provided by ECOS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we are using Optyma Plus, several small ON/OFF uni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need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It can also be warm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9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But when we have col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335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In cold we have challeng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During night time, due low refrigeration load, the compressor can stop for a long time and the receiver cools dow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In next start the low pressure switch stops the compressor, the condensing pressure doesn’t increase fast enough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????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0000"/>
                </a:solidFill>
                <a:uFillTx/>
                <a:latin typeface="Tahoma"/>
              </a:rPr>
              <a:t>We must always add a check valve between the receiver and condensor, insulate the receiver and make some changes to the winter start param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In difficult places we install also a collar heater to the 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47280" y="1773000"/>
            <a:ext cx="7596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Founded by Fjalar Edlund 198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Kylma 1985, became later a Beijer ref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BITZER since 198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Leading refrigeration wholesaler in Fin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33 employees in 4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Turnover &gt;20m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-181080" y="83628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y Combi Cool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and pla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ug and play units are preferred nowaday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are a lot of companies suffering from lack of employe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y made units give more business with less employees. Instructions in Finnish language is a mus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te acce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sential to have - at least during warranty perio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allation very often 150 km (or more) away from the off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save time and money during start up, service and maintenan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way to find out the real reason for proble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er “loves” the very quick response t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o attract the custom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fter finding out which “tricks” you need in our clim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are not afraid anymore to sell ECOSTAR in Finlan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of course different type of product  - compared to on/off unit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OSTAR is a very reliable produ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“package” is the key point to succes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ce of Eco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 of course much higher than Optyma Plus or Silensy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need to compare apples with app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 soon the customer needs more than just “ON/OFF”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ECOSTAR is the better and cheaper solu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have to count th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 invest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st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just the list price of the uni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operating cos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much smaller because of the load optimized evaporating temperature control and the floating condensing pressure regul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6550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With one Ecostar you can replace for instance four normal on-off condensing uni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By the way, here you can see a challenging four stage ”booster condensing system”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9012011157"/>
          <p:cNvPicPr/>
          <p:nvPr/>
        </p:nvPicPr>
        <p:blipFill>
          <a:blip r:embed="rId1"/>
          <a:stretch/>
        </p:blipFill>
        <p:spPr>
          <a:xfrm>
            <a:off x="684360" y="342900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76676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cast and 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 expected, due to all the before mentioned impres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ing demand from installers and end custom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OSTAR has a good market potential f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ustrial application / process cooling with smaller capac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 super markets and petrol st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getable storages (high humidity need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r conditioning 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676080"/>
            <a:ext cx="874548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laus Nyström, MD, Combi Co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440" y="620280"/>
            <a:ext cx="874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5616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o promote ECO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ts and Fig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llation 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ecast and 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62643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rst business with ECOSTAR in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 interest was not very hi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OSTAR was offered like standard condensing uni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just from the price boo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: We sold the first three units in Fin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4920" y="3068640"/>
            <a:ext cx="55083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this our business ??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3068640"/>
            <a:ext cx="763272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s, it should be part of our business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59752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w did we promote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training in in spring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ed custom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 gro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actical training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OSTAR controller test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 vis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6804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id we promote ECOSTA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ion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TZER docum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T200-2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nish langu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od technical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16113" t="10934" r="14710" b="11259"/>
          <a:stretch/>
        </p:blipFill>
        <p:spPr>
          <a:xfrm>
            <a:off x="3924360" y="1844640"/>
            <a:ext cx="4680000" cy="40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Textfeld 4"/>
          <p:cNvSpPr/>
          <p:nvPr/>
        </p:nvSpPr>
        <p:spPr>
          <a:xfrm>
            <a:off x="6012000" y="2349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Combi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Diagramm 3" descr=""/>
          <p:cNvPicPr/>
          <p:nvPr/>
        </p:nvPicPr>
        <p:blipFill>
          <a:blip r:embed="rId1"/>
          <a:stretch/>
        </p:blipFill>
        <p:spPr>
          <a:xfrm>
            <a:off x="1281240" y="1649520"/>
            <a:ext cx="65815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03:24Z</dcterms:created>
  <dc:creator>petra.rofhok</dc:creator>
  <dc:description/>
  <dc:language>en-US</dc:language>
  <cp:lastModifiedBy>Yury Terpeniyants</cp:lastModifiedBy>
  <cp:lastPrinted>2011-11-28T08:34:32Z</cp:lastPrinted>
  <dcterms:modified xsi:type="dcterms:W3CDTF">2011-12-08T05:41:56Z</dcterms:modified>
  <cp:revision>58</cp:revision>
  <dc:subject/>
  <dc:title>PowerPoint-esitys</dc:title>
</cp:coreProperties>
</file>