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2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4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2350-D22E-4A5D-9E3C-EC1E79B3901D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73A7-CAD6-422A-AF09-8D8E53C555A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0834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0834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0834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21333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21333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0834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0834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0834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0834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40834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0834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40834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0834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40834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21333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21333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40834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40834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40834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834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0834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834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1" descr="pohja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1333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86600" y="152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9"/>
          <p:cNvSpPr/>
          <p:nvPr/>
        </p:nvSpPr>
        <p:spPr>
          <a:xfrm>
            <a:off x="6858000" y="1522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7" descr="testi_logo"/>
          <p:cNvPicPr/>
          <p:nvPr/>
        </p:nvPicPr>
        <p:blipFill>
          <a:blip r:embed="rId3"/>
          <a:stretch/>
        </p:blipFill>
        <p:spPr>
          <a:xfrm>
            <a:off x="6019920" y="228600"/>
            <a:ext cx="2514600" cy="372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9" descr="test_beijer"/>
          <p:cNvPicPr/>
          <p:nvPr/>
        </p:nvPicPr>
        <p:blipFill>
          <a:blip r:embed="rId4"/>
          <a:stretch/>
        </p:blipFill>
        <p:spPr>
          <a:xfrm>
            <a:off x="7315200" y="6477120"/>
            <a:ext cx="1676520" cy="134640"/>
          </a:xfrm>
          <a:prstGeom prst="rect">
            <a:avLst/>
          </a:prstGeom>
          <a:ln w="0">
            <a:noFill/>
          </a:ln>
        </p:spPr>
      </p:pic>
      <p:sp>
        <p:nvSpPr>
          <p:cNvPr id="7" name="Rectangle 32"/>
          <p:cNvSpPr/>
          <p:nvPr/>
        </p:nvSpPr>
        <p:spPr>
          <a:xfrm>
            <a:off x="0" y="1600200"/>
            <a:ext cx="914400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3"/>
          <p:cNvSpPr/>
          <p:nvPr/>
        </p:nvSpPr>
        <p:spPr>
          <a:xfrm>
            <a:off x="0" y="5943600"/>
            <a:ext cx="91440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609480" y="59436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HELSIN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Ruosilantie 14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00390 HELSIN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2743200" y="5943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TAMP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Lakalaivankatu 10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33840 TAMP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2"/>
          <p:cNvSpPr/>
          <p:nvPr/>
        </p:nvSpPr>
        <p:spPr>
          <a:xfrm>
            <a:off x="5105520" y="5943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TURK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Pitkämäenkatu 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20250 TURK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1" descr="pohja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6858000" y="1522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7" descr="testi_logo"/>
          <p:cNvPicPr/>
          <p:nvPr/>
        </p:nvPicPr>
        <p:blipFill>
          <a:blip r:embed="rId3"/>
          <a:stretch/>
        </p:blipFill>
        <p:spPr>
          <a:xfrm>
            <a:off x="6019920" y="228600"/>
            <a:ext cx="2514600" cy="372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9" descr="test_beijer"/>
          <p:cNvPicPr/>
          <p:nvPr/>
        </p:nvPicPr>
        <p:blipFill>
          <a:blip r:embed="rId4"/>
          <a:stretch/>
        </p:blipFill>
        <p:spPr>
          <a:xfrm>
            <a:off x="7315200" y="6477120"/>
            <a:ext cx="1676520" cy="1346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2"/>
          <p:cNvSpPr/>
          <p:nvPr/>
        </p:nvSpPr>
        <p:spPr>
          <a:xfrm>
            <a:off x="0" y="1600200"/>
            <a:ext cx="914400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3"/>
          <p:cNvSpPr/>
          <p:nvPr/>
        </p:nvSpPr>
        <p:spPr>
          <a:xfrm>
            <a:off x="0" y="5943600"/>
            <a:ext cx="91440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609480" y="59436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HELSIN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Ruosilantie 14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00390 HELSIN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2743200" y="5943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TAMP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Lakalaivankatu 10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33840 TAMP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5105520" y="5943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TURK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Pitkämäenkatu 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20250 TURK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21333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517480"/>
            <a:ext cx="914400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COSTAR  Success Story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land</a:t>
            </a:r>
            <a:br>
              <a:rPr sz="3200"/>
            </a:b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y Klaus Nyström, MD, Combi Co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5445000"/>
            <a:ext cx="6400800" cy="19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delfingen, Frida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cember 20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cess Story ECOS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Grafik 3" descr="Ecostar IMG_3399.JPG"/>
          <p:cNvPicPr/>
          <p:nvPr/>
        </p:nvPicPr>
        <p:blipFill>
          <a:blip r:embed="rId1"/>
          <a:stretch/>
        </p:blipFill>
        <p:spPr>
          <a:xfrm>
            <a:off x="3780000" y="1941480"/>
            <a:ext cx="5364000" cy="35751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-324000" y="2262240"/>
            <a:ext cx="3922920" cy="35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0" tIns="0" bIns="0" anchor="t">
            <a:noAutofit/>
          </a:bodyPr>
          <a:p>
            <a:pPr lvl="1" marL="190440" indent="-18900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Siwa shop (150m2) in Rais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HV6/4FC for 5-decker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0 kW at -10C/+30C amb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e! Market lead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n the same picture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feld 4"/>
          <p:cNvSpPr/>
          <p:nvPr/>
        </p:nvSpPr>
        <p:spPr>
          <a:xfrm>
            <a:off x="423720" y="5516640"/>
            <a:ext cx="8296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cess Story ECOS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0" y="1989000"/>
            <a:ext cx="3276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0" tIns="0" bIns="0" anchor="t">
            <a:noAutofit/>
          </a:bodyPr>
          <a:p>
            <a:pPr lvl="1" marL="190440" indent="-18900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upermarket  in A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 kombi freezers a’ 5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799"/>
              </a:spcAft>
              <a:buClr>
                <a:srgbClr val="008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5,5kW / pcs 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35/+30C am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Grafik 3" descr="Aura store.jpg"/>
          <p:cNvPicPr/>
          <p:nvPr/>
        </p:nvPicPr>
        <p:blipFill>
          <a:blip r:embed="rId1"/>
          <a:stretch/>
        </p:blipFill>
        <p:spPr>
          <a:xfrm>
            <a:off x="4211640" y="1955880"/>
            <a:ext cx="4525920" cy="3394080"/>
          </a:xfrm>
          <a:prstGeom prst="rect">
            <a:avLst/>
          </a:prstGeom>
          <a:ln w="0">
            <a:noFill/>
          </a:ln>
        </p:spPr>
      </p:pic>
      <p:pic>
        <p:nvPicPr>
          <p:cNvPr id="129" name="Grafik 4" descr="Aura Ecostar2.jpg"/>
          <p:cNvPicPr/>
          <p:nvPr/>
        </p:nvPicPr>
        <p:blipFill>
          <a:blip r:embed="rId2"/>
          <a:srcRect l="23010" t="8813" r="6338" b="18889"/>
          <a:stretch/>
        </p:blipFill>
        <p:spPr>
          <a:xfrm>
            <a:off x="1116000" y="3589200"/>
            <a:ext cx="293040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cess Story ECOS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0" y="1916280"/>
            <a:ext cx="327672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0" tIns="0" bIns="0" anchor="t">
            <a:noAutofit/>
          </a:bodyPr>
          <a:p>
            <a:pPr lvl="1" marL="190440" indent="-189000">
              <a:lnSpc>
                <a:spcPct val="108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wa box store in Lieto (150m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LHV6/4FC for milk, meat and f&amp;v rooms, 10 kW at -10C/+30C amb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LHV6/4EC for 5-deckers, 13 kW at -10C/+30C amb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units hided in  ventilation machine ro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ct val="108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Grafik 3" descr="Ecostar IMG_3383.JPG"/>
          <p:cNvPicPr/>
          <p:nvPr/>
        </p:nvPicPr>
        <p:blipFill>
          <a:blip r:embed="rId1"/>
          <a:stretch/>
        </p:blipFill>
        <p:spPr>
          <a:xfrm>
            <a:off x="5614920" y="1616040"/>
            <a:ext cx="3529080" cy="2352600"/>
          </a:xfrm>
          <a:prstGeom prst="rect">
            <a:avLst/>
          </a:prstGeom>
          <a:ln w="0">
            <a:noFill/>
          </a:ln>
        </p:spPr>
      </p:pic>
      <p:pic>
        <p:nvPicPr>
          <p:cNvPr id="133" name="Grafik 4" descr="Ecostar IMG_3388.JPG"/>
          <p:cNvPicPr/>
          <p:nvPr/>
        </p:nvPicPr>
        <p:blipFill>
          <a:blip r:embed="rId2"/>
          <a:stretch/>
        </p:blipFill>
        <p:spPr>
          <a:xfrm>
            <a:off x="3592440" y="3789360"/>
            <a:ext cx="31323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cess Story ECOS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-468360" y="1916280"/>
            <a:ext cx="316872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wa box store (200 m2) in Turku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LHV6/2DC for MT-rooms, 7,6 kW at -10C/+30C amb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LHV6/4FC for 5-deckers, 10 kW at -10C/+30C amb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LHV6/4EC for kombi freezer, 4 kW at -10C/+30C amb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These units make the whole refrigeration system !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Grafik 7" descr="ECOSTAR_Combicool.JPG"/>
          <p:cNvPicPr/>
          <p:nvPr/>
        </p:nvPicPr>
        <p:blipFill>
          <a:blip r:embed="rId1"/>
          <a:stretch/>
        </p:blipFill>
        <p:spPr>
          <a:xfrm>
            <a:off x="2916360" y="1901880"/>
            <a:ext cx="5976720" cy="3543120"/>
          </a:xfrm>
          <a:prstGeom prst="rect">
            <a:avLst/>
          </a:prstGeom>
          <a:ln w="0">
            <a:noFill/>
          </a:ln>
        </p:spPr>
      </p:pic>
      <p:sp>
        <p:nvSpPr>
          <p:cNvPr id="137" name="Textfeld 4"/>
          <p:cNvSpPr/>
          <p:nvPr/>
        </p:nvSpPr>
        <p:spPr>
          <a:xfrm>
            <a:off x="423720" y="5516640"/>
            <a:ext cx="8296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cess Story ECOS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Kuva 1" descr="30062011035"/>
          <p:cNvPicPr/>
          <p:nvPr/>
        </p:nvPicPr>
        <p:blipFill>
          <a:blip r:embed="rId1"/>
          <a:stretch/>
        </p:blipFill>
        <p:spPr>
          <a:xfrm>
            <a:off x="3132000" y="1989000"/>
            <a:ext cx="4969080" cy="3733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5"/>
          <p:cNvSpPr/>
          <p:nvPr/>
        </p:nvSpPr>
        <p:spPr>
          <a:xfrm>
            <a:off x="179280" y="2133720"/>
            <a:ext cx="3240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ale box store (200 m2) in Tamper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 pcs LHV6/4F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 space for a machine room 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se units make the wh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rigeration system !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cess Story ECOS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0058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750420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cess Story ECOS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mpressions – Why ECOSTA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bient temperature in Finland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rying from -30°C up to +30°C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t max. values for less than 2 weeks a yea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mbient temperature can be below -25°C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several week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g demand for capacity control – provided by ECOST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we are using Optyma Plus, several small ON/OFF unit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e needed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ahoma"/>
              </a:rPr>
              <a:t>It can also be warm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4924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ahoma"/>
              </a:rPr>
              <a:t>But when we have cold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633564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ahoma"/>
              </a:rPr>
              <a:t>In cold we have challenges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ahoma"/>
              </a:rPr>
              <a:t>During night time, due low refrigeration load, the compressor can stop for a long time and the receiver cools down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ahoma"/>
              </a:rPr>
              <a:t>In next start the low pressure switch stops the compressor, the condensing pressure doesn’t increase fast enough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ahoma"/>
              </a:rPr>
              <a:t>????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 u="sng">
                <a:solidFill>
                  <a:srgbClr val="000000"/>
                </a:solidFill>
                <a:uFillTx/>
                <a:latin typeface="Tahoma"/>
              </a:rPr>
              <a:t>We must always add a check valve between the receiver and condensor, insulate the receiver and make some changes to the winter start paramete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ahoma"/>
              </a:rPr>
              <a:t>In difficult places we install also a collar heater to the receiv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547280" y="1773000"/>
            <a:ext cx="759636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 Founded by Fjalar Edlund 198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 Kylma 1985, became later a Beijer ref compan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 BITZER since 198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 Leading refrigeration wholesaler in Finl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 33 employees in 4 loc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 Turnover &gt;20m€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-181080" y="836280"/>
            <a:ext cx="8785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y Combi Cool A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128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cess Story ECOS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14400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mpressions – Why ECOSTA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ug and play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ug and play units are preferred nowadays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re are a lot of companies suffering from lack of employees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y made units give more business with less employees. Instructions in Finnish language is a mus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128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cess Story ECOS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144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mpressions – Why ECOSTA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mote acces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sential to have - at least during warranty perio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stallation very often 150 km (or more) away from the offic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e save time and money during start up, service and maintenanc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way to find out the real reason for problem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er “loves” the very quick response tim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cess Story ECOS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14400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mpressions – Why ECOSTA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w to attract the customer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fter finding out which “tricks” you need in our climate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e are not afraid anymore to sell ECOSTAR in Finlan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 is of course different type of product  - compared to on/off units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COSTAR is a very reliable produc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“package” is the key point to success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cess Story ECOS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mpressions – Why ECOSTA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ce of Ecost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s of course much higher than Optyma Plus or Silensys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ou need to compare apples with appl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 soon the customer needs more than just “ON/OFF”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ECOSTAR is the better and cheaper solution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ou have to count th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tal investmen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ost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 just the list price of the uni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 operating cost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re much smaller because of the load optimized evaporating temperature control and the floating condensing pressure regulation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cess Story ECOS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65502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ahoma"/>
              </a:rPr>
              <a:t>With one Ecostar you can replace for instance four normal on-off condensing uni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ahoma"/>
              </a:rPr>
              <a:t>By the way, here you can see a challenging four stage ”booster condensing system”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4" descr="19012011157"/>
          <p:cNvPicPr/>
          <p:nvPr/>
        </p:nvPicPr>
        <p:blipFill>
          <a:blip r:embed="rId1"/>
          <a:stretch/>
        </p:blipFill>
        <p:spPr>
          <a:xfrm>
            <a:off x="684360" y="3429000"/>
            <a:ext cx="3168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128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cess Story ECOS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-360" y="1916280"/>
            <a:ext cx="766764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orecast and Vi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owth expected, due to all the before mentioned impression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creasing demand from installers and end custom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COSTAR has a good market potential fo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dustrial application / process cooling with smaller capaciti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mall super markets and petrol stat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getable storages (high humidity neede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ir conditioning appli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676080"/>
            <a:ext cx="874548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cess Story ECOS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874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hank you for your attention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Klaus Nyström, MD, Combi Co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81440" y="620280"/>
            <a:ext cx="87454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cess Story ECOS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7280" y="2205000"/>
            <a:ext cx="5616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w to promote ECOST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cts and Figu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tallation examp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ecast and Vi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cess Story ECOS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02920" y="2060280"/>
            <a:ext cx="626436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irst business with ECOSTAR in 200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stomer interest was not very hig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COSTAR was offered like standard condensing uni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just from the price book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ult: We sold the first three units in Finl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cess Story ECOS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834920" y="3068640"/>
            <a:ext cx="5508360" cy="10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s this our business ???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cess Story ECOS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3068640"/>
            <a:ext cx="7632720" cy="10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Yes, it should be part of our business 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cess Story ECOS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92360" y="2133720"/>
            <a:ext cx="597528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ow did we promote ECOSTA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rst training in in spring 200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ed custom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mall grou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actical training wit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COSTAR controller test un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stomer visi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vertis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cess Story ECOS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2276640"/>
            <a:ext cx="68040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ow did we promote ECOSTA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lation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ITZER document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T200-2 int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nnish langu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od technical suppo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rcRect l="16113" t="10934" r="14710" b="11259"/>
          <a:stretch/>
        </p:blipFill>
        <p:spPr>
          <a:xfrm>
            <a:off x="3924360" y="1844640"/>
            <a:ext cx="4680000" cy="403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9" name="Textfeld 4"/>
          <p:cNvSpPr/>
          <p:nvPr/>
        </p:nvSpPr>
        <p:spPr>
          <a:xfrm>
            <a:off x="6012000" y="23493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CombiC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cess Story ECOS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Diagramm 3" descr=""/>
          <p:cNvPicPr/>
          <p:nvPr/>
        </p:nvPicPr>
        <p:blipFill>
          <a:blip r:embed="rId1"/>
          <a:stretch/>
        </p:blipFill>
        <p:spPr>
          <a:xfrm>
            <a:off x="1281240" y="1649520"/>
            <a:ext cx="658152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09:03:24Z</dcterms:created>
  <dc:creator>petra.rofhok</dc:creator>
  <dc:description/>
  <dc:language>en-US</dc:language>
  <cp:lastModifiedBy>Yury Terpeniyants</cp:lastModifiedBy>
  <cp:lastPrinted>2011-11-28T08:34:32Z</cp:lastPrinted>
  <dcterms:modified xsi:type="dcterms:W3CDTF">2011-12-08T05:41:56Z</dcterms:modified>
  <cp:revision>58</cp:revision>
  <dc:subject/>
  <dc:title>PowerPoint-esitys</dc:title>
</cp:coreProperties>
</file>