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25560">
            <a:solidFill>
              <a:srgbClr val="41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buttons"/>
          <p:cNvPicPr/>
          <p:nvPr/>
        </p:nvPicPr>
        <p:blipFill>
          <a:blip r:embed="rId2"/>
          <a:stretch/>
        </p:blipFill>
        <p:spPr>
          <a:xfrm>
            <a:off x="544680" y="6396120"/>
            <a:ext cx="1179360" cy="288720"/>
          </a:xfrm>
          <a:prstGeom prst="rect">
            <a:avLst/>
          </a:prstGeom>
          <a:ln w="0">
            <a:noFill/>
          </a:ln>
        </p:spPr>
      </p:pic>
      <p:sp>
        <p:nvSpPr>
          <p:cNvPr id="4" name="Line 11"/>
          <p:cNvSpPr/>
          <p:nvPr/>
        </p:nvSpPr>
        <p:spPr>
          <a:xfrm>
            <a:off x="0" y="1006560"/>
            <a:ext cx="9144000" cy="0"/>
          </a:xfrm>
          <a:prstGeom prst="line">
            <a:avLst/>
          </a:prstGeom>
          <a:ln w="25560">
            <a:solidFill>
              <a:srgbClr val="41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>
            <a:hlinkClick r:id="rId3" action="ppaction://hlinksldjump"/>
          </p:cNvPr>
          <p:cNvSpPr/>
          <p:nvPr/>
        </p:nvSpPr>
        <p:spPr>
          <a:xfrm>
            <a:off x="53964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>
            <a:hlinkClick r:id="" action="ppaction://hlinkshowjump?jump=firstslide"/>
          </p:cNvPr>
          <p:cNvSpPr/>
          <p:nvPr/>
        </p:nvSpPr>
        <p:spPr>
          <a:xfrm>
            <a:off x="79056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>
            <a:hlinkClick r:id="" action="ppaction://hlinkshowjump?jump=previousslide"/>
          </p:cNvPr>
          <p:cNvSpPr/>
          <p:nvPr/>
        </p:nvSpPr>
        <p:spPr>
          <a:xfrm>
            <a:off x="98100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>
            <a:hlinkClick r:id="" action="ppaction://hlinkshowjump?jump=nextslide"/>
          </p:cNvPr>
          <p:cNvSpPr/>
          <p:nvPr/>
        </p:nvSpPr>
        <p:spPr>
          <a:xfrm>
            <a:off x="131436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>
            <a:hlinkClick r:id="" action="ppaction://hlinkshowjump?jump=lastslide"/>
          </p:cNvPr>
          <p:cNvSpPr/>
          <p:nvPr/>
        </p:nvSpPr>
        <p:spPr>
          <a:xfrm>
            <a:off x="150480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>
            <a:hlinkClick r:id="" action="ppaction://hlinkshowjump?jump=endshow"/>
          </p:cNvPr>
          <p:cNvSpPr/>
          <p:nvPr/>
        </p:nvSpPr>
        <p:spPr>
          <a:xfrm>
            <a:off x="1155600" y="6445080"/>
            <a:ext cx="157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22" descr="Bitzer_Stern_S_3c_rgb"/>
          <p:cNvPicPr/>
          <p:nvPr/>
        </p:nvPicPr>
        <p:blipFill>
          <a:blip r:embed="rId4"/>
          <a:stretch/>
        </p:blipFill>
        <p:spPr>
          <a:xfrm>
            <a:off x="7664400" y="6416640"/>
            <a:ext cx="1068480" cy="372960"/>
          </a:xfrm>
          <a:prstGeom prst="rect">
            <a:avLst/>
          </a:prstGeom>
          <a:ln w="0">
            <a:noFill/>
          </a:ln>
        </p:spPr>
      </p:pic>
      <p:sp>
        <p:nvSpPr>
          <p:cNvPr id="12" name="Textfeld 14"/>
          <p:cNvSpPr/>
          <p:nvPr/>
        </p:nvSpPr>
        <p:spPr>
          <a:xfrm>
            <a:off x="1608480" y="6496200"/>
            <a:ext cx="414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TZER //  Manuel Saboy (AS) //  BITZER Webinar – 1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June 2013 //  Page </a:t>
            </a:r>
            <a:fld id="{CDD96FD3-37FE-4B0E-8A14-0C95F255A44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5"/>
          <p:cNvSpPr/>
          <p:nvPr/>
        </p:nvSpPr>
        <p:spPr>
          <a:xfrm>
            <a:off x="0" y="0"/>
            <a:ext cx="9144000" cy="6226200"/>
          </a:xfrm>
          <a:prstGeom prst="rect">
            <a:avLst/>
          </a:prstGeom>
          <a:solidFill>
            <a:srgbClr val="41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0000"/>
          </a:bodyPr>
          <a:p>
            <a:pPr marL="171360" indent="0" algn="ctr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1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2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3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4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5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  <a:p>
            <a:pPr lvl="6"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a62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88" name="Picture 19" descr="Bitzer_Stern_S_3c_rgb"/>
          <p:cNvPicPr/>
          <p:nvPr/>
        </p:nvPicPr>
        <p:blipFill>
          <a:blip r:embed="rId2"/>
          <a:stretch/>
        </p:blipFill>
        <p:spPr>
          <a:xfrm>
            <a:off x="7664400" y="6416640"/>
            <a:ext cx="1068480" cy="37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htec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D:\Temp\präsentation\BITZER_Logo_400mm_XXL_3c_C+Y+K_ClaimEN.tif"/>
          <p:cNvPicPr/>
          <p:nvPr/>
        </p:nvPicPr>
        <p:blipFill>
          <a:blip r:embed="rId2"/>
          <a:stretch/>
        </p:blipFill>
        <p:spPr>
          <a:xfrm>
            <a:off x="2230560" y="2101680"/>
            <a:ext cx="4680000" cy="2133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Bitzer_Stern_S_3c_rgb_bg_black"/>
          <p:cNvPicPr/>
          <p:nvPr/>
        </p:nvPicPr>
        <p:blipFill>
          <a:blip r:embed="rId2"/>
          <a:stretch/>
        </p:blipFill>
        <p:spPr>
          <a:xfrm>
            <a:off x="7664400" y="6416640"/>
            <a:ext cx="1068480" cy="372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800" indent="-1818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51784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720000" rIns="72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41a62a"/>
                </a:solidFill>
                <a:latin typeface="Arial"/>
              </a:rPr>
              <a:t>NEW ECOLINE</a:t>
            </a:r>
            <a:br>
              <a:rPr sz="3000"/>
            </a:br>
            <a:r>
              <a:rPr b="0" lang="en-US" sz="3000" spc="-1" strike="noStrike">
                <a:solidFill>
                  <a:srgbClr val="41a62a"/>
                </a:solidFill>
                <a:latin typeface="Arial"/>
              </a:rPr>
              <a:t>R407F Applications</a:t>
            </a:r>
            <a:endParaRPr b="0" lang="en-US" sz="30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0" y="575784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720000" rIns="720000" tIns="0" bIns="0" anchor="t">
            <a:noAutofit/>
          </a:bodyPr>
          <a:p>
            <a:pPr indent="0" algn="ctr">
              <a:lnSpc>
                <a:spcPct val="108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a62a"/>
                </a:solidFill>
                <a:latin typeface="Arial"/>
              </a:rPr>
              <a:t>BITZER Web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8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a62a"/>
                </a:solidFill>
                <a:latin typeface="Arial"/>
              </a:rPr>
              <a:t>11</a:t>
            </a:r>
            <a:r>
              <a:rPr b="0" lang="en-US" sz="1800" spc="-1" strike="noStrike" baseline="30000">
                <a:solidFill>
                  <a:srgbClr val="41a62a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41a62a"/>
                </a:solidFill>
                <a:latin typeface="Arial"/>
              </a:rPr>
              <a:t> June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12680" y="1197000"/>
            <a:ext cx="8937720" cy="504036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ICATION LIMI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BITZER 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1 to C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4896000" cy="3573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502080" cy="1836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BITZER 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4 to BE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5040360" cy="360216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5651640" y="4005360"/>
            <a:ext cx="3433680" cy="1944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BITZER 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4 to BE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CI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4969080" cy="35276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5580000" y="4016520"/>
            <a:ext cx="3419640" cy="186048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GEA B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large motor (M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http://vap.bock.de/stationaryapplication/Handler/CompressorOperatingLimitsImageHandler.ashx?ProductID=1207&amp;Ashrae=R407F&amp;xValue=-10&amp;yValue=45"/>
          <p:cNvPicPr/>
          <p:nvPr/>
        </p:nvPicPr>
        <p:blipFill>
          <a:blip r:embed="rId1"/>
          <a:stretch/>
        </p:blipFill>
        <p:spPr>
          <a:xfrm>
            <a:off x="539640" y="2332080"/>
            <a:ext cx="7096320" cy="398448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GEA B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small motor (M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http://vap.bock.de/stationaryapplication/Handler/CompressorOperatingLimitsImageHandler.ashx?ProductID=1206&amp;Ashrae=R407F&amp;xValue=-10&amp;yValue=45"/>
          <p:cNvPicPr/>
          <p:nvPr/>
        </p:nvPicPr>
        <p:blipFill>
          <a:blip r:embed="rId1"/>
          <a:stretch/>
        </p:blipFill>
        <p:spPr>
          <a:xfrm>
            <a:off x="539640" y="2349360"/>
            <a:ext cx="4808520" cy="396576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GEA B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(L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http://vap.bock.de/stationaryapplication/Handler/CompressorOperatingLimitsImageHandler.ashx?ProductID=1212&amp;Ashrae=R407F&amp;xValue=-35&amp;yValue=40"/>
          <p:cNvPicPr/>
          <p:nvPr/>
        </p:nvPicPr>
        <p:blipFill>
          <a:blip r:embed="rId1"/>
          <a:stretch/>
        </p:blipFill>
        <p:spPr>
          <a:xfrm>
            <a:off x="539640" y="2360520"/>
            <a:ext cx="5977080" cy="39481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GEA B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(L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limitations in some compresso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http://vap.bock.de/stationaryapplication/Handler/CompressorOperatingLimitsImageHandler.ashx?ProductID=1214&amp;Ashrae=R407F&amp;xValue=-35&amp;yValue=40"/>
          <p:cNvPicPr/>
          <p:nvPr/>
        </p:nvPicPr>
        <p:blipFill>
          <a:blip r:embed="rId1"/>
          <a:stretch/>
        </p:blipFill>
        <p:spPr>
          <a:xfrm>
            <a:off x="4788000" y="2997360"/>
            <a:ext cx="4176720" cy="27590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57" name="Picture 6" descr="http://vap.bock.de/stationaryapplication/Handler/CompressorOperatingLimitsImageHandler.ashx?ProductID=1213&amp;Ashrae=R407F&amp;xValue=-35&amp;yValue=40"/>
          <p:cNvPicPr/>
          <p:nvPr/>
        </p:nvPicPr>
        <p:blipFill>
          <a:blip r:embed="rId2"/>
          <a:stretch/>
        </p:blipFill>
        <p:spPr>
          <a:xfrm>
            <a:off x="539640" y="2997360"/>
            <a:ext cx="4176720" cy="27590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Cope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large motor (M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3564000" y="2349360"/>
            <a:ext cx="5040360" cy="387216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BINAR CONT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Cope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small motor and liquid injection (L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606840" y="2349360"/>
            <a:ext cx="4997520" cy="38084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Cope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ol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large motor (M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5235840" cy="403200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1438200"/>
            <a:ext cx="87422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pplication Limits with Cope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ol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es with small motor and liquid injection (LT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5230800" cy="403200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OMPARISON OF 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42120" cy="4824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OMPARISON OF APPLICATION LIMI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42120" cy="48247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sp>
        <p:nvSpPr>
          <p:cNvPr id="274" name="Freihandform 2"/>
          <p:cNvSpPr/>
          <p:nvPr/>
        </p:nvSpPr>
        <p:spPr>
          <a:xfrm>
            <a:off x="2314440" y="2247840"/>
            <a:ext cx="3381480" cy="2476440"/>
          </a:xfrm>
          <a:custGeom>
            <a:avLst/>
            <a:gdLst/>
            <a:ahLst/>
            <a:rect l="l" t="t" r="r" b="b"/>
            <a:pathLst>
              <a:path w="3381375" h="2476500">
                <a:moveTo>
                  <a:pt x="457200" y="0"/>
                </a:moveTo>
                <a:lnTo>
                  <a:pt x="2952750" y="0"/>
                </a:lnTo>
                <a:lnTo>
                  <a:pt x="3381375" y="247650"/>
                </a:lnTo>
                <a:lnTo>
                  <a:pt x="3381375" y="1476375"/>
                </a:lnTo>
                <a:lnTo>
                  <a:pt x="2657475" y="2228850"/>
                </a:lnTo>
                <a:lnTo>
                  <a:pt x="2190750" y="2476500"/>
                </a:lnTo>
                <a:lnTo>
                  <a:pt x="19050" y="2476500"/>
                </a:lnTo>
                <a:lnTo>
                  <a:pt x="0" y="762000"/>
                </a:lnTo>
                <a:lnTo>
                  <a:pt x="457200" y="0"/>
                </a:lnTo>
                <a:close/>
              </a:path>
            </a:pathLst>
          </a:custGeom>
          <a:solidFill>
            <a:srgbClr val="5bac26">
              <a:alpha val="50000"/>
            </a:srgbClr>
          </a:solidFill>
          <a:ln w="25560">
            <a:solidFill>
              <a:srgbClr val="417d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IC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ROLLED LIQUID INJ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IC: CONTROLLED LIQUID INJE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74000"/>
          </a:bodyPr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-13968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T-130 for further information about C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0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6553440" cy="46688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sp>
        <p:nvSpPr>
          <p:cNvPr id="280" name="Ellipse 4"/>
          <p:cNvSpPr/>
          <p:nvPr/>
        </p:nvSpPr>
        <p:spPr>
          <a:xfrm>
            <a:off x="2195640" y="4653000"/>
            <a:ext cx="792000" cy="792000"/>
          </a:xfrm>
          <a:prstGeom prst="ellipse">
            <a:avLst/>
          </a:prstGeom>
          <a:noFill/>
          <a:ln w="381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llipse 5"/>
          <p:cNvSpPr/>
          <p:nvPr/>
        </p:nvSpPr>
        <p:spPr>
          <a:xfrm>
            <a:off x="3203640" y="4005360"/>
            <a:ext cx="792000" cy="792000"/>
          </a:xfrm>
          <a:prstGeom prst="ellipse">
            <a:avLst/>
          </a:prstGeom>
          <a:noFill/>
          <a:ln w="381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IC: CONTROLLED LIQUID INJE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4 – BE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ZER ECOLINE with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5213520" cy="367344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3060720" cy="1663920"/>
          </a:xfrm>
          <a:prstGeom prst="rect">
            <a:avLst/>
          </a:prstGeom>
          <a:ln w="9360">
            <a:solidFill>
              <a:srgbClr val="5bac26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IC: CONTROLLED LIQUID INJE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1000"/>
          </a:bodyPr>
          <a:p>
            <a:pPr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ZER 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must be equipped with CIC system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R407F L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216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version 2 must be selected for CIC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216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oling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data with CIC already available (Web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-load operation with CIC (motor 2 and additional cool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560" indent="-216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t 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50% and to ≥ -40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Inverter operation with CIC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2040" indent="-122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-type Condensing Unit: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 -40°C and without additional f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T 1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WEBINAR CONTENT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036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67000"/>
          </a:bodyPr>
          <a:p>
            <a:pPr lvl="1" marL="127440" indent="-1263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to EU current situation and R407F phys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Liquid Injection (C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7440" indent="-1263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2: Supermarke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407F as substitute for R40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4a/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ybri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7440" indent="-1263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3: Competit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eland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eland Scrol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42160" indent="-1785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 BOCK: HG /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7440" indent="-1263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7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PART 1 - QUESTION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291" name="Diagramm 4" descr=""/>
          <p:cNvPicPr/>
          <p:nvPr/>
        </p:nvPicPr>
        <p:blipFill>
          <a:blip r:embed="rId1"/>
          <a:stretch/>
        </p:blipFill>
        <p:spPr>
          <a:xfrm>
            <a:off x="596880" y="1298520"/>
            <a:ext cx="787716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ERMARKET AP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407F AS SUBSTITUTE FOR R404A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90000"/>
          </a:bodyPr>
          <a:p>
            <a:pPr lvl="1" marL="171360" indent="-16992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retrofit solution to comply with EU Propos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(GWP&lt;2500 from 2020 onwar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restrictions in EU, e.g. from 2030 onwards,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6992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 and L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39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COP/EER of the compr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39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same compresso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39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temperature glide (6,4 K) on efficiency depending o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407F AS SUBSTITUTE FOR R404A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ischarge gas temper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to be considered in L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C system offers an additional protection for CE4 – BE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from high discharge gas temperatures in LT applications due pressure fluctuations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407F AS SUBSTITUTE FOR R404A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0" y="1365120"/>
            <a:ext cx="874224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134a/CO</a:t>
            </a:r>
            <a:r>
              <a:rPr b="0" lang="en-US" sz="2800" spc="-1" strike="noStrike" baseline="-25000">
                <a:solidFill>
                  <a:srgbClr val="41a62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 HYBRID SYSTEM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9036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50840" indent="-150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ommended solution by BI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50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4a requires larger compressor size, 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COP/EER than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GWP than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leakage rate than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134a/CO</a:t>
            </a:r>
            <a:r>
              <a:rPr b="0" lang="en-US" sz="2800" spc="-1" strike="noStrike" baseline="-25000">
                <a:solidFill>
                  <a:srgbClr val="41a62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 HYBRID SYSTEM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9036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3000"/>
          </a:bodyPr>
          <a:p>
            <a:pPr lvl="1" marL="158040" indent="-1566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reductions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ssions are most 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ternative to R407F with lower GWP and same cooling capacity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8040" indent="-1566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glide of R407F (6,4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145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ect on system’s efficiency (cascade H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14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available substitute refrigerants for R134a ret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R134a/CO</a:t>
            </a:r>
            <a:r>
              <a:rPr b="0" lang="en-US" sz="2800" spc="-1" strike="noStrike" baseline="-25000">
                <a:solidFill>
                  <a:srgbClr val="41a62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 HYBRID SYSTEM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9036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UR custo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4a i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 for the high stage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34a/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 for supermarke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T 2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PART 2 - QUESTION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pic>
        <p:nvPicPr>
          <p:cNvPr id="311" name="Diagramm 3" descr=""/>
          <p:cNvPicPr/>
          <p:nvPr/>
        </p:nvPicPr>
        <p:blipFill>
          <a:blip r:embed="rId1"/>
          <a:stretch/>
        </p:blipFill>
        <p:spPr>
          <a:xfrm>
            <a:off x="353880" y="1268280"/>
            <a:ext cx="83520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 algn="ctr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41a62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GENERAL INFORMA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r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erforma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LT (Honeyw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HRAE Refrigerant Designation: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substitute refrigerant also for R404A in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74224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7000"/>
          </a:bodyPr>
          <a:p>
            <a:pPr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with reciprocating compressors on R407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5600" indent="-1641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beginning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4160" indent="-231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calculations on R407F with .2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4160" indent="-231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Application Engineering o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560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560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5600" indent="-16416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C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4160" indent="-2318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data with R407F included in the BITZER software as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CURRENT SITUATION IN THE EU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437840"/>
            <a:ext cx="8820000" cy="36147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98000"/>
          </a:bodyPr>
          <a:p>
            <a:pPr lvl="1" marL="1864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for a Regulation of the European Parliament and of the Council on fluorinated greenhouse gases (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vember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-185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C of very high GWP (&gt;2500)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permitted from 2020 on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-185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ffects recharging of existing refrigeration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0">
              <a:lnSpc>
                <a:spcPct val="108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6480" indent="-185040">
              <a:lnSpc>
                <a:spcPct val="108000"/>
              </a:lnSpc>
              <a:spcAft>
                <a:spcPts val="1001"/>
              </a:spcAft>
              <a:buClr>
                <a:srgbClr val="41a62a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ystems with a charge size over 5 tonnes of CO2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156360" y="5300640"/>
            <a:ext cx="2808360" cy="9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a62a"/>
                </a:solidFill>
                <a:latin typeface="Arial"/>
              </a:rPr>
              <a:t>PHYSICAL PROPERTIES</a:t>
            </a:r>
            <a:endParaRPr b="0" lang="en-US" sz="2800" spc="-1" strike="noStrike">
              <a:solidFill>
                <a:srgbClr val="41a62a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9640" y="1444680"/>
          <a:ext cx="8209080" cy="3479760"/>
        </p:xfrm>
        <a:graphic>
          <a:graphicData uri="http://schemas.openxmlformats.org/drawingml/2006/table">
            <a:tbl>
              <a:tblPr/>
              <a:tblGrid>
                <a:gridCol w="3254400"/>
                <a:gridCol w="887400"/>
                <a:gridCol w="1035000"/>
                <a:gridCol w="1035360"/>
                <a:gridCol w="1035000"/>
                <a:gridCol w="961920"/>
              </a:tblGrid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04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507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07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407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ac26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w point temp. [1 bar(a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1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6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 glide [1 bar(a)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gas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cond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gas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cond.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1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WP (100 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CC III (2001) [CO2 = 1,0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3cd"/>
                    </a:solidFill>
                  </a:tcPr>
                </a:tc>
              </a:tr>
            </a:tbl>
          </a:graphicData>
        </a:graphic>
      </p:graphicFrame>
      <p:sp>
        <p:nvSpPr>
          <p:cNvPr id="224" name="Textfeld 6"/>
          <p:cNvSpPr/>
          <p:nvPr/>
        </p:nvSpPr>
        <p:spPr>
          <a:xfrm>
            <a:off x="539640" y="5373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   to = -10°C; tc = 45°C;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oh = 20°C (isentro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**   to = -35°C; tc = 40°C; toh = 20°C (isentro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llipse 4"/>
          <p:cNvSpPr/>
          <p:nvPr/>
        </p:nvSpPr>
        <p:spPr>
          <a:xfrm>
            <a:off x="7812000" y="3573360"/>
            <a:ext cx="936720" cy="863640"/>
          </a:xfrm>
          <a:prstGeom prst="ellipse">
            <a:avLst/>
          </a:prstGeom>
          <a:noFill/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llipse 7"/>
          <p:cNvSpPr/>
          <p:nvPr/>
        </p:nvSpPr>
        <p:spPr>
          <a:xfrm>
            <a:off x="7812000" y="2852640"/>
            <a:ext cx="936720" cy="863640"/>
          </a:xfrm>
          <a:prstGeom prst="ellipse">
            <a:avLst/>
          </a:prstGeom>
          <a:noFill/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llipse 8"/>
          <p:cNvSpPr/>
          <p:nvPr/>
        </p:nvSpPr>
        <p:spPr>
          <a:xfrm>
            <a:off x="3780000" y="3573360"/>
            <a:ext cx="936360" cy="863640"/>
          </a:xfrm>
          <a:prstGeom prst="ellipse">
            <a:avLst/>
          </a:prstGeom>
          <a:noFill/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llipse 9"/>
          <p:cNvSpPr/>
          <p:nvPr/>
        </p:nvSpPr>
        <p:spPr>
          <a:xfrm>
            <a:off x="3780000" y="2852640"/>
            <a:ext cx="936360" cy="863640"/>
          </a:xfrm>
          <a:prstGeom prst="ellipse">
            <a:avLst/>
          </a:prstGeom>
          <a:noFill/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9:36:28Z</dcterms:created>
  <dc:creator>101617</dc:creator>
  <dc:description/>
  <dc:language>en-US</dc:language>
  <cp:lastModifiedBy>ДМИТРИЙ</cp:lastModifiedBy>
  <dcterms:modified xsi:type="dcterms:W3CDTF">2013-08-12T10:03:04Z</dcterms:modified>
  <cp:revision>253</cp:revision>
  <dc:subject/>
  <dc:title>TITLE PRESENTATION</dc:title>
</cp:coreProperties>
</file>