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70485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33280"/>
            <a:ext cx="6858000" cy="704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445760"/>
            <a:ext cx="9144000" cy="2362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4033440"/>
            <a:ext cx="9144000" cy="2362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33280"/>
            <a:ext cx="6858000" cy="704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45760"/>
            <a:ext cx="4462200" cy="2362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6640" y="1445760"/>
            <a:ext cx="4462200" cy="2362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033440"/>
            <a:ext cx="4462200" cy="2362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6640" y="4033440"/>
            <a:ext cx="4462200" cy="2362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233280"/>
            <a:ext cx="6858000" cy="704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445760"/>
            <a:ext cx="2944080" cy="2362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72560" y="1445760"/>
            <a:ext cx="2944080" cy="2362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64240" y="1445760"/>
            <a:ext cx="2944080" cy="2362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4033440"/>
            <a:ext cx="2944080" cy="2362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72560" y="4033440"/>
            <a:ext cx="2944080" cy="2362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64240" y="4033440"/>
            <a:ext cx="2944080" cy="2362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3280"/>
            <a:ext cx="6858000" cy="704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44576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3280"/>
            <a:ext cx="6858000" cy="704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4576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33280"/>
            <a:ext cx="6858000" cy="704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45760"/>
            <a:ext cx="4462200" cy="4953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6640" y="1445760"/>
            <a:ext cx="4462200" cy="4953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3280"/>
            <a:ext cx="6858000" cy="704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233280"/>
            <a:ext cx="6858000" cy="32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33280"/>
            <a:ext cx="6858000" cy="704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445760"/>
            <a:ext cx="4462200" cy="2362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6640" y="1445760"/>
            <a:ext cx="4462200" cy="4953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4033440"/>
            <a:ext cx="4462200" cy="2362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33280"/>
            <a:ext cx="6858000" cy="704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445760"/>
            <a:ext cx="4462200" cy="4953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6640" y="1445760"/>
            <a:ext cx="4462200" cy="2362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6640" y="4033440"/>
            <a:ext cx="4462200" cy="2362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33280"/>
            <a:ext cx="6858000" cy="704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445760"/>
            <a:ext cx="4462200" cy="2362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6640" y="1445760"/>
            <a:ext cx="4462200" cy="2362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4033440"/>
            <a:ext cx="9144000" cy="2362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3280"/>
            <a:ext cx="6858000" cy="704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576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spcBef>
                <a:spcPts val="52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spcBef>
                <a:spcPts val="524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36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130480" indent="-236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130480" indent="-236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130480" indent="-236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988920"/>
            <a:ext cx="9144000" cy="15264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c9f6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380880" y="6694560"/>
            <a:ext cx="1295640" cy="31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" name=""/>
          <p:cNvGraphicFramePr/>
          <p:nvPr/>
        </p:nvGraphicFramePr>
        <p:xfrm>
          <a:off x="8229600" y="395280"/>
          <a:ext cx="129528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395280"/>
                    <a:ext cx="12952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7803000" y="6710400"/>
            <a:ext cx="213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ster-R22 – </a:t>
            </a:r>
            <a:fld id="{E039170B-C50B-4C62-9A9D-D9C1385A1333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03200" y="246240"/>
          <a:ext cx="69883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246240"/>
                    <a:ext cx="69883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990720" y="1219320"/>
          <a:ext cx="7696080" cy="571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219320"/>
                    <a:ext cx="7696080" cy="57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5T12:56:47Z</dcterms:created>
  <dc:creator>Hendriks</dc:creator>
  <dc:description/>
  <dc:language>en-US</dc:language>
  <cp:lastModifiedBy>Hendriks</cp:lastModifiedBy>
  <cp:lastPrinted>2001-03-05T13:00:54Z</cp:lastPrinted>
  <dcterms:modified xsi:type="dcterms:W3CDTF">2001-03-05T13:08:34Z</dcterms:modified>
  <cp:revision>5</cp:revision>
  <dc:subject/>
  <dc:title>Kein Folientitel</dc:title>
</cp:coreProperties>
</file>