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70485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91440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33440"/>
            <a:ext cx="91440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3344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6640" y="403344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2560" y="144576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64240" y="144576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3344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2560" y="403344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64240" y="4033440"/>
            <a:ext cx="294408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44576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33280"/>
            <a:ext cx="68580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3344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6640" y="403344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45760"/>
            <a:ext cx="44622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33440"/>
            <a:ext cx="9144000" cy="2362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328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576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spcBef>
                <a:spcPts val="5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spcBef>
                <a:spcPts val="524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36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30480" indent="-236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30480" indent="-236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30480" indent="-2365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88920"/>
            <a:ext cx="9144000" cy="1526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c9f6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80880" y="6694560"/>
            <a:ext cx="129564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8229600" y="395280"/>
          <a:ext cx="12952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9600" y="395280"/>
                    <a:ext cx="1295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803000" y="6710400"/>
            <a:ext cx="21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er-R22 – </a:t>
            </a:r>
            <a:fld id="{12E66C25-BEA4-4D5C-91BB-FFDC5527345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3200" y="246240"/>
          <a:ext cx="69883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46240"/>
                    <a:ext cx="6988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219320"/>
          <a:ext cx="7696080" cy="571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769608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2:56:47Z</dcterms:created>
  <dc:creator>Hendriks</dc:creator>
  <dc:description/>
  <dc:language>en-US</dc:language>
  <cp:lastModifiedBy>Hendriks</cp:lastModifiedBy>
  <cp:lastPrinted>2001-03-05T13:00:54Z</cp:lastPrinted>
  <dcterms:modified xsi:type="dcterms:W3CDTF">2001-03-05T13:08:34Z</dcterms:modified>
  <cp:revision>5</cp:revision>
  <dc:subject/>
  <dc:title>Kein Folientitel</dc:title>
</cp:coreProperties>
</file>